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436-900C-4E76-8954-C9330F6A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75A-62FE-49A3-9F3B-7003E95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57A-9F4F-40D9-AC82-3458F3C6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A42-0831-4D69-8B89-A36A07B4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314-F3B4-467C-9DEA-2D93419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E3E-811E-462E-84D0-4EC6793A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4E5-56C9-48C6-8E16-BAE0E795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784-6A86-4A6D-8E3E-74A5201F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7D2-39E2-4650-8F03-FAF19550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756-68CD-4047-AFF9-F5C14E79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32C-02B0-4071-B8D9-8668830D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030-BFF0-44EA-83BF-F5FD476B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DAFE-270A-4153-92B7-E1DF9F02CEE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229360"/>
            <a:ext cx="5940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Ruqah2 Normal"/>
              </a:rPr>
              <a:t>يا عطش الأروا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60640" y="0"/>
            <a:ext cx="5283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َ يكف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ربُك يَهد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ينُك تَحم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ورُك يُغنينا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63920" y="0"/>
            <a:ext cx="478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خبزُك يُحي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خمرُك يَرو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 يَعط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وراً وحياة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7:41:27Z</dcterms:created>
  <dc:creator>Charbel Azar</dc:creator>
  <dc:description/>
  <dc:language>en-US</dc:language>
  <cp:lastModifiedBy>ف</cp:lastModifiedBy>
  <dcterms:modified xsi:type="dcterms:W3CDTF">2006-04-24T22:50:29Z</dcterms:modified>
  <cp:revision>5</cp:revision>
  <dc:subject/>
  <dc:title>Slide 1</dc:title>
</cp:coreProperties>
</file>